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95A385-BCBD-4CA5-9047-A95E96C101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50977-C0EF-4C02-988A-2903E3D2B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C05A45-2314-475B-8C00-6626A8FC527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A970F68-0ECF-450C-8F36-394F7345B40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C05372-7DD6-4C45-A396-4E3D2BFA20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823A477-5736-4D99-B297-91926259A9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4CF476-7B6C-4C5C-8E8A-F16AABDFAD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8C66CF-A72A-45C3-9830-B878F9D772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ECC2E0-C020-432B-8D63-7B4778CD1A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7D9D977-9CB0-482D-B96E-6636A0B8543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1841D1-415D-40E6-9EC9-0BB1413502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419EBC1-FBF1-4AEC-9814-455362C554E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7E47DD-E4BE-48A5-A001-B9D2175D32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073324F-105D-4E27-AAF1-277AA6030F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E6BE9D-E80B-4A4F-B52A-B0B19D1CFE9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1B1790-2385-47C1-B4BC-695C27B4CA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76DE69C-F37C-4F9B-BC13-06C93706BB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4527233-E44F-431F-85F7-F808D0A96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0AEBDB-F039-4C7E-BA19-2F863746660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3D9212-2A1F-4266-A65E-82495A6354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51808B-C789-4C0E-850B-0E30B6D42E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F2FC5E3-6A2E-4499-9EC5-BE0FE8FD2C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685F46B-BE02-4F4D-BF2E-EC5FCC627B6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7F250C-76A4-43FD-A363-FB408049A7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A345413-8328-4167-A8CE-3DF59D66604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40A6A4-8AD2-4F55-92E9-A431AD7E660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E7563F6-5B9C-4C12-808F-B3AA235BA53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1DB96E-346B-4346-8C77-26F3CEBF24F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02D98A-4206-45A0-87F4-30E498CE2D3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DDE8FF-DF88-4313-9977-7E276EB372F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E7034E-26B3-476B-8573-B7154B879D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9F5EFEE-1777-4C38-A403-4F16FB0661C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847250-509A-4845-9145-F0C33016E3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A8FB72-733D-4D95-85B5-594E48CD9A6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A260AC-9ADB-484E-AA6C-FDE33DE18B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6B2D9ED-11A2-460E-8CC4-AC72C5222E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8E2AD0D-BFA3-4147-8793-3AA7E90EC11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184934C-7A55-4458-AFD1-247BD8959E4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F0F2BB6-ADB7-4EAB-9593-DECC3EF131C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3D795B9-5BFF-4B7D-AE78-D9B33F411E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FF7A7A4-173E-4BBE-BF56-9521A9E2A1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8F76D1-B4CA-44D8-9A53-1DB400674B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4106C22-3D1C-4418-854D-3B07368204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91A83C-F92F-4742-9898-B816868EF0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975DAA-356E-451E-BEB1-7EB9BFC841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83D73B-6692-4B7F-B69B-694D50066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E78504-C642-418D-839B-AC484FB66A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C9AEC74-7D2D-46A5-9C6D-27B22915776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D934BCE-9F4B-4CD1-A035-D204FD893D8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63E69E6-5350-49D5-AA9C-0131D201AC2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3FD76DE-C651-4956-814A-F4A8E8648DB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99E0F56-973A-4C63-BB1A-D95300938DF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AED86A0-5662-401E-B134-32730D7EEF9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802433FF-68A0-43B7-BB40-02CDA918310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251AA26-0DD3-4F75-B5D3-4EEDA69DD3C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FF708B8-BF37-416E-BE3F-D9E03D558DE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CC353D-C5B8-4A56-8DDB-A947CF50FEA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4FE132F-EBC1-4C86-8541-77836C02E7F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0F0FFD4-CAA1-4948-A270-7EC014F48E4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CE27B639-F877-4C19-B699-03371829D5C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225661CB-5943-4618-BFB7-24E0A54E3B0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2F749E57-F852-49F5-AEA0-B6308FAE0BE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D206005-293D-41D9-8D51-70D9BBD8355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845C346-2957-462B-93D4-C23F20D5876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A0540B8-2956-4732-806A-B7A8DC36D8C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443338E-E1A7-41BC-8F2A-66939671BEC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0586C80-1C45-488F-A548-8975F465F0C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C1A341-1FA5-4DFD-B361-53C7B81BC6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832326D-E436-42FD-8852-40ED9D3D453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9170216-F392-4F44-AF50-1BFE1298934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692410DE-E59A-4FC2-A1DB-79DB17E3CF4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879827E-E7F7-4746-BEEE-0E5A3FA22DA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5856439-04C4-4F72-A183-054C85090654}"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1C414-DB21-4022-A840-1717AE61F6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ECEEF-CED8-49FB-B6C0-D2D1EB72F6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DA2C4-5AA9-4FB4-BEE6-C78182A341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D25150-651A-4B53-9626-2383A5C036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6CBA1-8BDD-4D61-8D25-B2C0D633D7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45C014-7894-435B-8167-798648AE8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D6BC11-1C21-4A4D-9034-B30F1BA97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3AD6F7-12D8-4607-BB33-A53C23F176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E3C191-800F-452E-A94D-5FE5CE2700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E9437-8ED3-4635-A4A2-4D4A6BBE9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37591-4F81-452D-8B79-075AF4B18B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59F2AE-D2AD-4568-97A6-9FFDE7E409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AE4AD-72E0-4B1A-8797-DA8AC384D4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6FC29B-2058-43A1-8235-8BFB29A410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0EB35-2885-48B3-9F61-3690587371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E585CB-3AC4-46CF-A858-32880C9A4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FAD291-1C93-448E-9C73-A9C9F9963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3B6881-DC90-45A1-945D-E6136DB9438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7910FD9-3CEB-468A-98E1-EA789EA9D9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8CA0E5-9628-44C5-85AE-19C407A99A3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C7BD384-F017-46F8-AF32-924066A9FE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7E978A-6816-463D-9908-7FB5B428A1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17E8A4F-49F4-4B68-BC04-10C5C85068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38EB21-F4BC-4C9C-B1BD-67BFCCCF0F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DE5F53-C027-455C-964B-D4B9A152E76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CE2347-0113-4657-A1AB-520A86DD6B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7D82CF-BC0D-4A3C-8D7A-EE1053EDC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882F4E-C5FB-4159-ACB3-6442A3A71F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EDAB6-277F-4363-8F1D-E89BBD83E3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FAA8B3-547C-4FFD-9C50-03F02A8258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2BD1A54-4605-437A-A334-9804CF4948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5E39FA-7FBF-4B30-A8BD-CB269668821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AAB1B-B416-464B-A45E-43601E84185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FB700D-5C3B-495A-92E4-D47454734DA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C9B301-BC27-4745-B0DB-42648B2CF4F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641FFFC-514A-423E-AC4D-55A679ECCD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7796A0-A81D-4EF1-A221-6DD0650A49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EEEF4-3FB0-47D5-8AFD-103FE58082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F8B3140-F9F9-4604-BEB8-BD8345313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3B9D733-32C4-416E-B16C-6AC6C6935B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493169-75CD-4E60-808C-F4881A71ABC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FDE744-20D5-459E-984A-8A7EE80725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0FE9C5B-3393-4EF7-ACFC-33752EA7D66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299DF13-1AE4-41B3-8217-A252513BEF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280E92-830E-4144-BA5C-33341F61D8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8EE6DB5-D7F3-4C08-BED0-23DDD27593F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DD0CAB-B6FD-4092-AFF1-CD7FD0A9C1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307B5E-840C-453F-A75B-EAC46121D2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929F-CEB2-4A79-AEEE-E7A8D90E0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97756C-CA8E-4601-A8BC-FFB323EA8E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A1C0BC-BA6A-4298-8300-1DE546846CA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D7E4E72-A152-47F6-A247-B8AFEF5B85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37C87B-3147-49C5-ABC4-AB31E6F14F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375AE-2486-4CC0-9CC6-83A66DEFAB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68A57AD-B343-4C93-9E68-FED687B2F5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F198ADF-52E1-4237-BC2F-AC53BCAC6B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F75C95A-0F94-4DCD-9830-A301F356DDF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3CD8B74-6DAA-48C8-BE73-22CAF6C00E2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632E210-90F8-4B7A-89C4-B16B76034B6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440"/>
            <a:ext cx="7695000" cy="2025360"/>
            <a:chOff x="-573120" y="-649440"/>
            <a:chExt cx="7695000" cy="2025360"/>
          </a:xfrm>
        </p:grpSpPr>
        <p:grpSp>
          <p:nvGrpSpPr>
            <p:cNvPr id="2" name="Group 32"/>
            <p:cNvGrpSpPr/>
            <p:nvPr/>
          </p:nvGrpSpPr>
          <p:grpSpPr>
            <a:xfrm>
              <a:off x="-263160" y="-649440"/>
              <a:ext cx="7385040" cy="2025360"/>
              <a:chOff x="-263160" y="-649440"/>
              <a:chExt cx="7385040" cy="2025360"/>
            </a:xfrm>
          </p:grpSpPr>
          <p:sp>
            <p:nvSpPr>
              <p:cNvPr id="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66A92-66D7-4EE5-82B0-4429175CF6D0}"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DE8152D-DB4F-42B7-8234-AF2F6B06CED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440"/>
            <a:ext cx="7695000" cy="2025360"/>
            <a:chOff x="-573120" y="-649440"/>
            <a:chExt cx="7695000" cy="2025360"/>
          </a:xfrm>
        </p:grpSpPr>
        <p:grpSp>
          <p:nvGrpSpPr>
            <p:cNvPr id="584" name="Group 32"/>
            <p:cNvGrpSpPr/>
            <p:nvPr/>
          </p:nvGrpSpPr>
          <p:grpSpPr>
            <a:xfrm>
              <a:off x="-263160" y="-649440"/>
              <a:ext cx="7385040" cy="2025360"/>
              <a:chOff x="-263160" y="-649440"/>
              <a:chExt cx="7385040" cy="2025360"/>
            </a:xfrm>
          </p:grpSpPr>
          <p:sp>
            <p:nvSpPr>
              <p:cNvPr id="585"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6"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7"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8"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9"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0"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1"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2"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3"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4"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5"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6"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7"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8"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9"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0"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1"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2"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3"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4"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05"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Rounded MT Bold"/>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2C9AB7E-DF04-4D6D-B306-A7E75F4946DC}"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B92D5C-8FF2-47F9-A381-7D1462A0B5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440"/>
            <a:ext cx="7695000" cy="2025360"/>
            <a:chOff x="-573120" y="-649440"/>
            <a:chExt cx="7695000" cy="2025360"/>
          </a:xfrm>
        </p:grpSpPr>
        <p:grpSp>
          <p:nvGrpSpPr>
            <p:cNvPr id="652" name="Group 32"/>
            <p:cNvGrpSpPr/>
            <p:nvPr/>
          </p:nvGrpSpPr>
          <p:grpSpPr>
            <a:xfrm>
              <a:off x="-263160" y="-649440"/>
              <a:ext cx="7385040" cy="2025360"/>
              <a:chOff x="-263160" y="-649440"/>
              <a:chExt cx="7385040" cy="2025360"/>
            </a:xfrm>
          </p:grpSpPr>
          <p:sp>
            <p:nvSpPr>
              <p:cNvPr id="65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7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grpSp>
        <p:nvGrpSpPr>
          <p:cNvPr id="675" name="Group 33"/>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8E5D34-0CD8-4B3C-88C6-1ECA01FDA5CA}"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8CA032-4406-41ED-A1E9-98CAD6843A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440"/>
            <a:ext cx="7695000" cy="2025360"/>
            <a:chOff x="-573120" y="-649440"/>
            <a:chExt cx="7695000" cy="2025360"/>
          </a:xfrm>
        </p:grpSpPr>
        <p:grpSp>
          <p:nvGrpSpPr>
            <p:cNvPr id="721" name="Group 32"/>
            <p:cNvGrpSpPr/>
            <p:nvPr/>
          </p:nvGrpSpPr>
          <p:grpSpPr>
            <a:xfrm>
              <a:off x="-263160" y="-649440"/>
              <a:ext cx="7385040" cy="2025360"/>
              <a:chOff x="-263160" y="-649440"/>
              <a:chExt cx="7385040" cy="2025360"/>
            </a:xfrm>
          </p:grpSpPr>
          <p:sp>
            <p:nvSpPr>
              <p:cNvPr id="722"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3"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4"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5"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6"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7"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8"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9"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0"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1"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2"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3"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4"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5"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6"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7"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8"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9"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0"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1"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2"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grpSp>
        <p:nvGrpSpPr>
          <p:cNvPr id="744" name="Group 35"/>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E10431-9143-49F1-BC5C-02B038673BA5}"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3D50FA1-37A3-4742-A0C4-F13B9DA30CF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440"/>
            <a:ext cx="7695000" cy="2025360"/>
            <a:chOff x="-573120" y="-649440"/>
            <a:chExt cx="7695000" cy="2025360"/>
          </a:xfrm>
        </p:grpSpPr>
        <p:grpSp>
          <p:nvGrpSpPr>
            <p:cNvPr id="790" name="Group 32"/>
            <p:cNvGrpSpPr/>
            <p:nvPr/>
          </p:nvGrpSpPr>
          <p:grpSpPr>
            <a:xfrm>
              <a:off x="-263160" y="-649440"/>
              <a:ext cx="7385040" cy="2025360"/>
              <a:chOff x="-263160" y="-649440"/>
              <a:chExt cx="7385040" cy="2025360"/>
            </a:xfrm>
          </p:grpSpPr>
          <p:sp>
            <p:nvSpPr>
              <p:cNvPr id="79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1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1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972BA1-5D5F-469B-A7A5-8A2D385D2655}"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84E27D7-518F-4CDE-9239-95FF399589B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440"/>
            <a:ext cx="7695000" cy="2025360"/>
            <a:chOff x="-573120" y="-649440"/>
            <a:chExt cx="7695000" cy="2025360"/>
          </a:xfrm>
        </p:grpSpPr>
        <p:grpSp>
          <p:nvGrpSpPr>
            <p:cNvPr id="857" name="Group 32"/>
            <p:cNvGrpSpPr/>
            <p:nvPr/>
          </p:nvGrpSpPr>
          <p:grpSpPr>
            <a:xfrm>
              <a:off x="-263160" y="-649440"/>
              <a:ext cx="7385040" cy="2025360"/>
              <a:chOff x="-263160" y="-649440"/>
              <a:chExt cx="7385040" cy="2025360"/>
            </a:xfrm>
          </p:grpSpPr>
          <p:sp>
            <p:nvSpPr>
              <p:cNvPr id="85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7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80" name="Round Same Side Corner Rectangle 31"/>
          <p:cNvSpPr/>
          <p:nvPr/>
        </p:nvSpPr>
        <p:spPr>
          <a:xfrm>
            <a:off x="7299360" y="444600"/>
            <a:ext cx="1535040" cy="6400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2F8F0A-8DA6-46C5-86D9-69BCD6E8270E}"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E444AE-3CFD-4CCD-83D0-34142DF1DB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52"/>
          <p:cNvGrpSpPr/>
          <p:nvPr/>
        </p:nvGrpSpPr>
        <p:grpSpPr>
          <a:xfrm>
            <a:off x="-720" y="1577520"/>
            <a:ext cx="9472320" cy="4641480"/>
            <a:chOff x="-720" y="1577520"/>
            <a:chExt cx="9472320" cy="4641480"/>
          </a:xfrm>
        </p:grpSpPr>
        <p:sp>
          <p:nvSpPr>
            <p:cNvPr id="68" name="Freeform 33"/>
            <p:cNvSpPr/>
            <p:nvPr/>
          </p:nvSpPr>
          <p:spPr>
            <a:xfrm rot="15669000">
              <a:off x="3702600" y="-843120"/>
              <a:ext cx="2065320" cy="926460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9" name="Freeform 34"/>
            <p:cNvSpPr/>
            <p:nvPr/>
          </p:nvSpPr>
          <p:spPr>
            <a:xfrm rot="15660000">
              <a:off x="5178960" y="1578960"/>
              <a:ext cx="1041120" cy="713520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0" name="Freeform 35"/>
            <p:cNvSpPr/>
            <p:nvPr/>
          </p:nvSpPr>
          <p:spPr>
            <a:xfrm rot="15660000">
              <a:off x="6127560" y="-70200"/>
              <a:ext cx="932760" cy="529704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1" name="Freeform 36"/>
            <p:cNvSpPr/>
            <p:nvPr/>
          </p:nvSpPr>
          <p:spPr>
            <a:xfrm rot="15660000">
              <a:off x="5623560" y="-612360"/>
              <a:ext cx="963000" cy="632052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 name="Freeform 37"/>
            <p:cNvSpPr/>
            <p:nvPr/>
          </p:nvSpPr>
          <p:spPr>
            <a:xfrm rot="15660000">
              <a:off x="6395040" y="-279360"/>
              <a:ext cx="552240" cy="510516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 name="Freeform 38"/>
            <p:cNvSpPr/>
            <p:nvPr/>
          </p:nvSpPr>
          <p:spPr>
            <a:xfrm rot="15660000">
              <a:off x="7468920" y="1177920"/>
              <a:ext cx="536400" cy="293616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 name="Freeform 39"/>
          <p:cNvSpPr/>
          <p:nvPr/>
        </p:nvSpPr>
        <p:spPr>
          <a:xfrm rot="15660000">
            <a:off x="5750640" y="-641880"/>
            <a:ext cx="985680" cy="604836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75" name="Group 29"/>
          <p:cNvGrpSpPr/>
          <p:nvPr/>
        </p:nvGrpSpPr>
        <p:grpSpPr>
          <a:xfrm>
            <a:off x="784080" y="-1220760"/>
            <a:ext cx="5811840" cy="2952720"/>
            <a:chOff x="784080" y="-1220760"/>
            <a:chExt cx="5811840" cy="2952720"/>
          </a:xfrm>
        </p:grpSpPr>
        <p:sp>
          <p:nvSpPr>
            <p:cNvPr id="76" name="Oval 41"/>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7" name="Oval 42"/>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8" name="Oval 43"/>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 name="Pie 44"/>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 name="Oval 45"/>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 name="Arc 46"/>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2" name="Pie 47"/>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3" name="Arc 48"/>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4" name="Oval 49"/>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 name="Oval 50"/>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 name="Arc 51"/>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 name="Oval 53"/>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440"/>
            <a:ext cx="7695000" cy="2025360"/>
            <a:chOff x="-573120" y="-649440"/>
            <a:chExt cx="7695000" cy="2025360"/>
          </a:xfrm>
        </p:grpSpPr>
        <p:grpSp>
          <p:nvGrpSpPr>
            <p:cNvPr id="130" name="Group 32"/>
            <p:cNvGrpSpPr/>
            <p:nvPr/>
          </p:nvGrpSpPr>
          <p:grpSpPr>
            <a:xfrm>
              <a:off x="-263160" y="-649440"/>
              <a:ext cx="7385040" cy="2025360"/>
              <a:chOff x="-263160" y="-649440"/>
              <a:chExt cx="7385040" cy="2025360"/>
            </a:xfrm>
          </p:grpSpPr>
          <p:sp>
            <p:nvSpPr>
              <p:cNvPr id="13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15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15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4D2B8E-3FAA-41DE-B577-C6E809ABFF16}"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62477D-78CE-4451-AE89-0FC58FA6D08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26"/>
          <p:cNvGrpSpPr/>
          <p:nvPr/>
        </p:nvGrpSpPr>
        <p:grpSpPr>
          <a:xfrm>
            <a:off x="784080" y="-1220760"/>
            <a:ext cx="5811840" cy="2952720"/>
            <a:chOff x="784080" y="-1220760"/>
            <a:chExt cx="5811840" cy="2952720"/>
          </a:xfrm>
        </p:grpSpPr>
        <p:sp>
          <p:nvSpPr>
            <p:cNvPr id="198" name="Oval 34"/>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9" name="Oval 35"/>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0" name="Oval 36"/>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1" name="Pie 37"/>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2" name="Oval 38"/>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3" name="Arc 39"/>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4" name="Pie 40"/>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5" name="Arc 41"/>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6" name="Oval 42"/>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7" name="Oval 43"/>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8" name="Arc 44"/>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0" name="Oval 46"/>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11" name="Freeform 47"/>
          <p:cNvSpPr/>
          <p:nvPr/>
        </p:nvSpPr>
        <p:spPr>
          <a:xfrm rot="15660000">
            <a:off x="5752080" y="67320"/>
            <a:ext cx="968400" cy="603108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2" name="Freeform 48"/>
          <p:cNvSpPr/>
          <p:nvPr/>
        </p:nvSpPr>
        <p:spPr>
          <a:xfrm rot="15669000">
            <a:off x="4038480" y="-17280"/>
            <a:ext cx="1789200" cy="8821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3" name="Freeform 49"/>
          <p:cNvSpPr/>
          <p:nvPr/>
        </p:nvSpPr>
        <p:spPr>
          <a:xfrm rot="15660000">
            <a:off x="6128640" y="621720"/>
            <a:ext cx="931680" cy="52956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4" name="Freeform 50"/>
          <p:cNvSpPr/>
          <p:nvPr/>
        </p:nvSpPr>
        <p:spPr>
          <a:xfrm rot="15660000">
            <a:off x="5624280" y="77400"/>
            <a:ext cx="9619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5" name="Freeform 51"/>
          <p:cNvSpPr/>
          <p:nvPr/>
        </p:nvSpPr>
        <p:spPr>
          <a:xfrm rot="15660000">
            <a:off x="6395040" y="411840"/>
            <a:ext cx="552240" cy="51037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6" name="Freeform 52"/>
          <p:cNvSpPr/>
          <p:nvPr/>
        </p:nvSpPr>
        <p:spPr>
          <a:xfrm rot="15660000">
            <a:off x="7468920" y="1865160"/>
            <a:ext cx="528480" cy="29476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prstGeom prst="pie">
            <a:avLst/>
          </a:prstGeom>
          <a:solidFill>
            <a:srgbClr val="073779">
              <a:alpha val="30000"/>
            </a:srgbClr>
          </a:solidFill>
          <a:ln w="3168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58" name="Freeform 33"/>
          <p:cNvSpPr/>
          <p:nvPr/>
        </p:nvSpPr>
        <p:spPr>
          <a:xfrm flipH="1" flipV="1" rot="15600000">
            <a:off x="3393000" y="-446400"/>
            <a:ext cx="2008440" cy="926496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59" name="Group 32"/>
          <p:cNvGrpSpPr/>
          <p:nvPr/>
        </p:nvGrpSpPr>
        <p:grpSpPr>
          <a:xfrm>
            <a:off x="2741400" y="-1206000"/>
            <a:ext cx="4668840" cy="2958480"/>
            <a:chOff x="2741400" y="-1206000"/>
            <a:chExt cx="4668840" cy="2958480"/>
          </a:xfrm>
        </p:grpSpPr>
        <p:sp>
          <p:nvSpPr>
            <p:cNvPr id="260" name="Oval 35"/>
            <p:cNvSpPr/>
            <p:nvPr/>
          </p:nvSpPr>
          <p:spPr>
            <a:xfrm>
              <a:off x="4495680" y="1143000"/>
              <a:ext cx="60984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61" name="Group 30"/>
            <p:cNvGrpSpPr/>
            <p:nvPr/>
          </p:nvGrpSpPr>
          <p:grpSpPr>
            <a:xfrm>
              <a:off x="2741400" y="-932400"/>
              <a:ext cx="2014920" cy="1892520"/>
              <a:chOff x="2741400" y="-932400"/>
              <a:chExt cx="2014920" cy="1892520"/>
            </a:xfrm>
          </p:grpSpPr>
          <p:sp>
            <p:nvSpPr>
              <p:cNvPr id="262" name="Arc 44"/>
              <p:cNvSpPr/>
              <p:nvPr/>
            </p:nvSpPr>
            <p:spPr>
              <a:xfrm flipH="1" rot="15213000">
                <a:off x="3021840" y="-834840"/>
                <a:ext cx="1452960" cy="1671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3" name="Oval 45"/>
              <p:cNvSpPr/>
              <p:nvPr/>
            </p:nvSpPr>
            <p:spPr>
              <a:xfrm flipH="1">
                <a:off x="3218400" y="31680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4" name="Oval 46"/>
              <p:cNvSpPr/>
              <p:nvPr/>
            </p:nvSpPr>
            <p:spPr>
              <a:xfrm flipH="1">
                <a:off x="3780360" y="15732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grpSp>
          <p:nvGrpSpPr>
            <p:cNvPr id="265" name="Group 29"/>
            <p:cNvGrpSpPr/>
            <p:nvPr/>
          </p:nvGrpSpPr>
          <p:grpSpPr>
            <a:xfrm>
              <a:off x="3217680" y="-1206000"/>
              <a:ext cx="4192560" cy="2356560"/>
              <a:chOff x="3217680" y="-1206000"/>
              <a:chExt cx="4192560" cy="2356560"/>
            </a:xfrm>
          </p:grpSpPr>
          <p:sp>
            <p:nvSpPr>
              <p:cNvPr id="266" name="Pie 40"/>
              <p:cNvSpPr/>
              <p:nvPr/>
            </p:nvSpPr>
            <p:spPr>
              <a:xfrm>
                <a:off x="3388680" y="-775800"/>
                <a:ext cx="319860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7" name="Oval 41"/>
              <p:cNvSpPr/>
              <p:nvPr/>
            </p:nvSpPr>
            <p:spPr>
              <a:xfrm>
                <a:off x="4416120" y="129960"/>
                <a:ext cx="93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8" name="Arc 42"/>
              <p:cNvSpPr/>
              <p:nvPr/>
            </p:nvSpPr>
            <p:spPr>
              <a:xfrm rot="12470400">
                <a:off x="3351960" y="-188640"/>
                <a:ext cx="103392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9" name="Arc 43"/>
              <p:cNvSpPr/>
              <p:nvPr/>
            </p:nvSpPr>
            <p:spPr>
              <a:xfrm rot="6387000">
                <a:off x="5291640" y="-961560"/>
                <a:ext cx="1905840" cy="1868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70" name="Oval 38"/>
            <p:cNvSpPr/>
            <p:nvPr/>
          </p:nvSpPr>
          <p:spPr>
            <a:xfrm>
              <a:off x="3062160" y="90000"/>
              <a:ext cx="267120" cy="2671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71" name="Chord 39"/>
            <p:cNvSpPr/>
            <p:nvPr/>
          </p:nvSpPr>
          <p:spPr>
            <a:xfrm rot="17618400">
              <a:off x="2809080" y="-85320"/>
              <a:ext cx="182520" cy="2286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72" name="Round Same Side Corner Rectangle 47"/>
          <p:cNvSpPr/>
          <p:nvPr/>
        </p:nvSpPr>
        <p:spPr>
          <a:xfrm rot="4733400">
            <a:off x="1459080" y="2141640"/>
            <a:ext cx="809640" cy="2606400"/>
          </a:xfrm>
          <a:prstGeom prst="pie">
            <a:avLst/>
          </a:prstGeom>
          <a:solidFill>
            <a:srgbClr val="073779">
              <a:alpha val="65000"/>
            </a:srgbClr>
          </a:solidFill>
          <a:ln w="25560">
            <a:solidFill>
              <a:srgbClr val="8fd9fb">
                <a:alpha val="65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3" name="Freeform 48"/>
          <p:cNvSpPr/>
          <p:nvPr/>
        </p:nvSpPr>
        <p:spPr>
          <a:xfrm rot="4733400">
            <a:off x="813600" y="2201760"/>
            <a:ext cx="700200" cy="2513160"/>
          </a:xfrm>
          <a:prstGeom prst="pie">
            <a:avLst/>
          </a:prstGeom>
          <a:solidFill>
            <a:srgbClr val="073779"/>
          </a:solidFill>
          <a:ln w="127080">
            <a:solidFill>
              <a:srgbClr val="8fd9f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4" name="Freeform 49"/>
          <p:cNvSpPr/>
          <p:nvPr/>
        </p:nvSpPr>
        <p:spPr>
          <a:xfrm rot="4733400">
            <a:off x="390600" y="3357360"/>
            <a:ext cx="379080" cy="1208160"/>
          </a:xfrm>
          <a:prstGeom prst="pie">
            <a:avLst/>
          </a:prstGeom>
          <a:solidFill>
            <a:srgbClr val="073779"/>
          </a:solidFill>
          <a:ln w="63360">
            <a:solidFill>
              <a:srgbClr val="8fd9f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440"/>
            <a:ext cx="7695000" cy="2025360"/>
            <a:chOff x="-573120" y="-649440"/>
            <a:chExt cx="7695000" cy="2025360"/>
          </a:xfrm>
        </p:grpSpPr>
        <p:grpSp>
          <p:nvGrpSpPr>
            <p:cNvPr id="316" name="Group 32"/>
            <p:cNvGrpSpPr/>
            <p:nvPr/>
          </p:nvGrpSpPr>
          <p:grpSpPr>
            <a:xfrm>
              <a:off x="-263160" y="-649440"/>
              <a:ext cx="7385040" cy="2025360"/>
              <a:chOff x="-263160" y="-649440"/>
              <a:chExt cx="7385040" cy="2025360"/>
            </a:xfrm>
          </p:grpSpPr>
          <p:sp>
            <p:nvSpPr>
              <p:cNvPr id="317"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8"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9"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0"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1"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2"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3"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4"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5"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6"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7"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8"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9"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0"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1"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2"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3"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4"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5"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6"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337"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339"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5F574FF-7A8B-4200-8B33-5A3938A86E93}"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0DD649-0254-410E-B5ED-9AAFC18A739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440"/>
            <a:ext cx="7695000" cy="2025360"/>
            <a:chOff x="-573120" y="-649440"/>
            <a:chExt cx="7695000" cy="2025360"/>
          </a:xfrm>
        </p:grpSpPr>
        <p:grpSp>
          <p:nvGrpSpPr>
            <p:cNvPr id="383" name="Group 32"/>
            <p:cNvGrpSpPr/>
            <p:nvPr/>
          </p:nvGrpSpPr>
          <p:grpSpPr>
            <a:xfrm>
              <a:off x="-263160" y="-649440"/>
              <a:ext cx="7385040" cy="2025360"/>
              <a:chOff x="-263160" y="-649440"/>
              <a:chExt cx="7385040" cy="2025360"/>
            </a:xfrm>
          </p:grpSpPr>
          <p:sp>
            <p:nvSpPr>
              <p:cNvPr id="384"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5"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6"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7"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8"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9"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0"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1"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2"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3"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4"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5"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6"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7"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8"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9"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0"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1"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2"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3"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04"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06"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2DFB46-4560-42BF-9CD9-DF29F21DB98A}"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E585C1-3E41-4DAF-9419-17E1BF976B3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440"/>
            <a:ext cx="7695000" cy="2025360"/>
            <a:chOff x="-573120" y="-649440"/>
            <a:chExt cx="7695000" cy="2025360"/>
          </a:xfrm>
        </p:grpSpPr>
        <p:grpSp>
          <p:nvGrpSpPr>
            <p:cNvPr id="450" name="Group 32"/>
            <p:cNvGrpSpPr/>
            <p:nvPr/>
          </p:nvGrpSpPr>
          <p:grpSpPr>
            <a:xfrm>
              <a:off x="-263160" y="-649440"/>
              <a:ext cx="7385040" cy="2025360"/>
              <a:chOff x="-263160" y="-649440"/>
              <a:chExt cx="7385040" cy="2025360"/>
            </a:xfrm>
          </p:grpSpPr>
          <p:sp>
            <p:nvSpPr>
              <p:cNvPr id="45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7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7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98A4472-41C1-40F9-BE95-E2C0183DB320}"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962B00-B67A-4177-84B7-F53F7185F9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440"/>
            <a:ext cx="7695000" cy="2025360"/>
            <a:chOff x="-573120" y="-649440"/>
            <a:chExt cx="7695000" cy="2025360"/>
          </a:xfrm>
        </p:grpSpPr>
        <p:grpSp>
          <p:nvGrpSpPr>
            <p:cNvPr id="517" name="Group 32"/>
            <p:cNvGrpSpPr/>
            <p:nvPr/>
          </p:nvGrpSpPr>
          <p:grpSpPr>
            <a:xfrm>
              <a:off x="-263160" y="-649440"/>
              <a:ext cx="7385040" cy="2025360"/>
              <a:chOff x="-263160" y="-649440"/>
              <a:chExt cx="7385040" cy="2025360"/>
            </a:xfrm>
          </p:grpSpPr>
          <p:sp>
            <p:nvSpPr>
              <p:cNvPr id="51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1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53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0D1C2E-66C2-41E3-B656-B11E9E264675}"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406081-A0CE-4B43-BD22-9A5BC4FB66F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anaging Healthcare</a:t>
            </a:r>
            <a:endParaRPr b="0" lang="en-US" sz="4600" spc="-1" strike="noStrike">
              <a:solidFill>
                <a:srgbClr val="ffffff"/>
              </a:solidFill>
              <a:latin typeface="Arial Rounded MT Bold"/>
            </a:endParaRPr>
          </a:p>
        </p:txBody>
      </p:sp>
      <p:sp>
        <p:nvSpPr>
          <p:cNvPr id="923" name="PlaceHolder 2"/>
          <p:cNvSpPr>
            <a:spLocks noGrp="1"/>
          </p:cNvSpPr>
          <p:nvPr>
            <p:ph type="subTitle"/>
          </p:nvPr>
        </p:nvSpPr>
        <p:spPr>
          <a:xfrm rot="21060000">
            <a:off x="2550960" y="470484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Keeping Healthcare Affordable</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Keeping Costs Down</a:t>
            </a:r>
            <a:endParaRPr b="0" lang="en-US" sz="4600" spc="-1" strike="noStrike">
              <a:solidFill>
                <a:srgbClr val="ffffff"/>
              </a:solidFill>
              <a:latin typeface="Arial Rounded MT Bold"/>
            </a:endParaRPr>
          </a:p>
        </p:txBody>
      </p:sp>
      <p:sp>
        <p:nvSpPr>
          <p:cNvPr id="925" name=""/>
          <p:cNvSpPr txBox="1"/>
          <p:nvPr/>
        </p:nvSpPr>
        <p:spPr>
          <a:xfrm>
            <a:off x="712800" y="3441600"/>
            <a:ext cx="7716960" cy="29592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overnment Subsidie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fund</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estructuring of Hospitals</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ans Testing</a:t>
            </a:r>
            <a:endParaRPr b="0" lang="en-US" sz="2400" spc="-1" strike="noStrike">
              <a:solidFill>
                <a:srgbClr val="ffffff"/>
              </a:solidFill>
              <a:latin typeface="Arial Rounded MT Bold"/>
            </a:endParaRPr>
          </a:p>
        </p:txBody>
      </p:sp>
      <p:sp>
        <p:nvSpPr>
          <p:cNvPr id="926" name="TextBox 3"/>
          <p:cNvSpPr/>
          <p:nvPr/>
        </p:nvSpPr>
        <p:spPr>
          <a:xfrm>
            <a:off x="488880" y="2819520"/>
            <a:ext cx="8293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Rounded MT Bold"/>
              </a:rPr>
              <a:t>How does the government keep healthcare affordable?</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7"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Government Subsidies</a:t>
            </a:r>
            <a:endParaRPr b="0" lang="en-US" sz="4600" spc="-1" strike="noStrike">
              <a:solidFill>
                <a:srgbClr val="ffffff"/>
              </a:solidFill>
              <a:latin typeface="Arial Rounded MT Bold"/>
            </a:endParaRPr>
          </a:p>
        </p:txBody>
      </p:sp>
      <p:sp>
        <p:nvSpPr>
          <p:cNvPr id="928"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Direct subsidies given to govt hospitals, polyclinics and some nursing home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nsure basic healthcare available to all</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Different rates of subsidies to different classes of wards, e.g. Class C wards receive the most</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fund</a:t>
            </a:r>
            <a:endParaRPr b="0" lang="en-US" sz="4600" spc="-1" strike="noStrike">
              <a:solidFill>
                <a:srgbClr val="ffffff"/>
              </a:solidFill>
              <a:latin typeface="Arial Rounded MT Bold"/>
            </a:endParaRPr>
          </a:p>
        </p:txBody>
      </p:sp>
      <p:sp>
        <p:nvSpPr>
          <p:cNvPr id="930"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Some needy S’poreans still cannot afford their medical bills</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Medifund set up to help those not able to pay</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Started with a fund of $200 million</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Interest earned given to public hospitals to provide help</a:t>
            </a:r>
            <a:endParaRPr b="0" lang="en-US" sz="2200" spc="-1" strike="noStrike">
              <a:solidFill>
                <a:srgbClr val="ffffff"/>
              </a:solidFill>
              <a:latin typeface="Arial Rounded MT Bold"/>
            </a:endParaRPr>
          </a:p>
          <a:p>
            <a:pPr marL="343080" indent="-343080">
              <a:lnSpc>
                <a:spcPct val="80000"/>
              </a:lnSpc>
              <a:spcAft>
                <a:spcPts val="2001"/>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Patients need to apply for the fund at the hospital </a:t>
            </a:r>
            <a:endParaRPr b="0" lang="en-US" sz="2200" spc="-1" strike="noStrike">
              <a:solidFill>
                <a:srgbClr val="ffffff"/>
              </a:solidFill>
              <a:latin typeface="Arial Rounded MT Bold"/>
            </a:endParaRPr>
          </a:p>
          <a:p>
            <a:pPr marL="343080" indent="-343080">
              <a:lnSpc>
                <a:spcPct val="80000"/>
              </a:lnSpc>
              <a:spcAft>
                <a:spcPts val="2001"/>
              </a:spcAft>
              <a:buSzPct val="1122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Restructuring of Hospitals</a:t>
            </a:r>
            <a:endParaRPr b="0" lang="en-US" sz="4600" spc="-1" strike="noStrike">
              <a:solidFill>
                <a:srgbClr val="ffffff"/>
              </a:solidFill>
              <a:latin typeface="Arial Rounded MT Bold"/>
            </a:endParaRPr>
          </a:p>
        </p:txBody>
      </p:sp>
      <p:sp>
        <p:nvSpPr>
          <p:cNvPr id="932"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Restructuring means that hospitals have more freedom to reorganise to meet people’s need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ovt also able to reduce hospital subsidies</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owever, many felt that restructuring meant higher hospital bills</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ans Testing</a:t>
            </a:r>
            <a:endParaRPr b="0" lang="en-US" sz="4600" spc="-1" strike="noStrike">
              <a:solidFill>
                <a:srgbClr val="ffffff"/>
              </a:solidFill>
              <a:latin typeface="Arial Rounded MT Bold"/>
            </a:endParaRPr>
          </a:p>
        </p:txBody>
      </p:sp>
      <p:sp>
        <p:nvSpPr>
          <p:cNvPr id="934"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One concern is subsidies provided should benefit patients who need them most</a:t>
            </a:r>
            <a:endParaRPr b="0" lang="en-US" sz="2200" spc="-1" strike="noStrike">
              <a:solidFill>
                <a:srgbClr val="ffffff"/>
              </a:solidFill>
              <a:latin typeface="Arial Rounded MT Bold"/>
            </a:endParaRPr>
          </a:p>
          <a:p>
            <a:pPr marL="343080" indent="-343080">
              <a:spcAft>
                <a:spcPts val="2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Resources more fairly distributed if those who cannot afford get the most</a:t>
            </a:r>
            <a:endParaRPr b="0" lang="en-US" sz="2200" spc="-1" strike="noStrike">
              <a:solidFill>
                <a:srgbClr val="ffffff"/>
              </a:solidFill>
              <a:latin typeface="Arial Rounded MT Bold"/>
            </a:endParaRPr>
          </a:p>
          <a:p>
            <a:pPr marL="343080" indent="-343080">
              <a:spcAft>
                <a:spcPts val="2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More well-to-do would benefit less</a:t>
            </a:r>
            <a:endParaRPr b="0" lang="en-US" sz="2200" spc="-1" strike="noStrike">
              <a:solidFill>
                <a:srgbClr val="ffffff"/>
              </a:solidFill>
              <a:latin typeface="Arial Rounded MT Bold"/>
            </a:endParaRPr>
          </a:p>
          <a:p>
            <a:pPr marL="343080" indent="-343080">
              <a:spcAft>
                <a:spcPts val="2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hecking of patients ability to pay is means-testing</a:t>
            </a:r>
            <a:endParaRPr b="0" lang="en-US" sz="2200" spc="-1" strike="noStrike">
              <a:solidFill>
                <a:srgbClr val="ffffff"/>
              </a:solidFill>
              <a:latin typeface="Arial Rounded MT Bold"/>
            </a:endParaRPr>
          </a:p>
          <a:p>
            <a:pPr marL="343080" indent="-343080">
              <a:spcAft>
                <a:spcPts val="2001"/>
              </a:spcAft>
              <a:buSzPct val="1122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gn="ctr">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Keeping Healthcare Affordable</a:t>
            </a:r>
            <a:endParaRPr b="0" lang="en-US" sz="4600" spc="-1" strike="noStrike">
              <a:solidFill>
                <a:srgbClr val="ffffff"/>
              </a:solidFill>
              <a:latin typeface="Arial Rounded MT Bold"/>
            </a:endParaRPr>
          </a:p>
        </p:txBody>
      </p:sp>
      <p:sp>
        <p:nvSpPr>
          <p:cNvPr id="936" name=""/>
          <p:cNvSpPr txBox="1"/>
          <p:nvPr/>
        </p:nvSpPr>
        <p:spPr>
          <a:xfrm>
            <a:off x="712800" y="3011040"/>
            <a:ext cx="7716960" cy="3389400"/>
          </a:xfrm>
          <a:prstGeom prst="rect">
            <a:avLst/>
          </a:prstGeom>
          <a:noFill/>
          <a:ln w="0">
            <a:noFill/>
          </a:ln>
        </p:spPr>
        <p:txBody>
          <a:bodyPr anchor="t">
            <a:normAutofit/>
          </a:bodyPr>
          <a:p>
            <a:pPr marL="343080" indent="-343080">
              <a:spcAft>
                <a:spcPts val="2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 conclusion,</a:t>
            </a:r>
            <a:endParaRPr b="0" lang="en-US" sz="2400" spc="-1" strike="noStrike">
              <a:solidFill>
                <a:srgbClr val="ffffff"/>
              </a:solidFill>
              <a:latin typeface="Arial Rounded MT Bold"/>
            </a:endParaRPr>
          </a:p>
          <a:p>
            <a:pPr marL="343080" indent="-343080">
              <a:spcAft>
                <a:spcPts val="2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Keeping healthcare affordable ensures that the average citizen can pay for his or her own healthcare bills. The healthcare system is better managed because resources are directed to those who need it the most through government policies.</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07:56:59Z</dcterms:created>
  <dc:creator>Justin</dc:creator>
  <dc:description/>
  <dc:language>en-US</dc:language>
  <cp:lastModifiedBy>Justin</cp:lastModifiedBy>
  <dcterms:modified xsi:type="dcterms:W3CDTF">2010-11-01T08:09:47Z</dcterms:modified>
  <cp:revision>2</cp:revision>
  <dc:subject/>
  <dc:title>Managing Healthcare</dc:title>
</cp:coreProperties>
</file>